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6.jpeg" ContentType="image/jpeg"/>
  <Override PartName="/ppt/media/image5.wmf" ContentType="image/x-wmf"/>
  <Override PartName="/ppt/media/image12.jpeg" ContentType="image/jpeg"/>
  <Override PartName="/ppt/media/image20.jpeg" ContentType="image/jpeg"/>
  <Override PartName="/ppt/media/image19.jpeg" ContentType="image/jpeg"/>
  <Override PartName="/ppt/media/image4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DD27-D8AA-417A-9210-76EF5C86A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BD49-8044-4764-9312-588B2E469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FC9C-65CB-45A9-A36C-466B23C0F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2917-9E24-4C36-8662-48A6A617A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BD37-B341-42AA-A5C0-60D7E81B1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BE4F-5694-4605-803B-466DDA8FD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C7E0-20D7-4AF5-AC68-5229000B4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7723-DCD3-46F7-99FC-9727DF287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68EA-43A4-406A-9A8E-4EC9FBDA4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7878-2144-471E-BB37-C5599409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0932-78E9-4E73-A794-B8A2D578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0E2F-250F-441B-BE50-CEF4AD5D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EEEE0-520C-46C6-AB8D-4E867710174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ftr" idx="4"/>
          </p:nvPr>
        </p:nvSpPr>
        <p:spPr>
          <a:xfrm>
            <a:off x="3132000" y="6095880"/>
            <a:ext cx="360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© 2008 Bowland Charitable Tr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1294920"/>
            <a:ext cx="7010640" cy="213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Comic Sans MS"/>
              </a:rPr>
              <a:t>Fun with the sun</a:t>
            </a:r>
            <a:br>
              <a:rPr sz="4400"/>
            </a:br>
            <a:r>
              <a:rPr b="0" lang="en-GB" sz="4400" spc="-1" strike="noStrike">
                <a:solidFill>
                  <a:srgbClr val="221304"/>
                </a:solidFill>
                <a:latin typeface="Comic Sans MS"/>
              </a:rPr>
              <a:t>- a bit of theory and an origami sundial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An origami sundial - 6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133640" y="2733840"/>
            <a:ext cx="3600360" cy="21524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019840" y="2773440"/>
            <a:ext cx="3600360" cy="20732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403280" y="6021360"/>
            <a:ext cx="69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lick on the picture to see a video clip of the fold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An origami sundial - 7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133640" y="2873520"/>
            <a:ext cx="3600360" cy="1871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019840" y="2808360"/>
            <a:ext cx="3600360" cy="20016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403280" y="6021360"/>
            <a:ext cx="69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lick on the picture to see a video clip of the fold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An origami sundial - 8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32000" y="2060640"/>
            <a:ext cx="6985080" cy="23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You now need to make a support to hold your sundial at the correct angle for your latitu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ake a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right angled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triangular prism where one of the angles is equal to your latitu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f your angle of latitude is 5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° then the angles of the triangle will be 51°, 90° and 39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4869000"/>
            <a:ext cx="1656000" cy="1224000"/>
          </a:xfrm>
          <a:prstGeom prst="rtTriangle">
            <a:avLst/>
          </a:prstGeom>
          <a:solidFill>
            <a:srgbClr val="a1bd6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268360" y="4508280"/>
            <a:ext cx="1224000" cy="360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924360" y="5733720"/>
            <a:ext cx="1224000" cy="360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3492360" y="4508640"/>
            <a:ext cx="1656000" cy="12254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340000" y="4292640"/>
            <a:ext cx="2448000" cy="720720"/>
          </a:xfrm>
          <a:prstGeom prst="line">
            <a:avLst/>
          </a:prstGeom>
          <a:ln cap="sq" w="2844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340000" y="4221000"/>
            <a:ext cx="3024000" cy="1800360"/>
          </a:xfrm>
          <a:prstGeom prst="line">
            <a:avLst/>
          </a:prstGeom>
          <a:ln cap="sq" w="2844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708000" y="4292640"/>
            <a:ext cx="2592360" cy="1728720"/>
          </a:xfrm>
          <a:prstGeom prst="line">
            <a:avLst/>
          </a:prstGeom>
          <a:ln cap="sq" w="2844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An origami sundial - 9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484360" y="1844640"/>
            <a:ext cx="4807080" cy="45212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403280" y="6308640"/>
            <a:ext cx="69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lick on the picture to see a video clip of the supp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A bit of theory - 1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76736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A bit of theory - 2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885000" cy="46861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403280" y="6093000"/>
            <a:ext cx="71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will fold a sundial like this from a sheet of pap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A bit of theory - 3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843280" y="1341360"/>
            <a:ext cx="380988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An origami sundial - 1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139760" y="1919160"/>
            <a:ext cx="3621240" cy="3816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019840" y="1992240"/>
            <a:ext cx="3600360" cy="363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403280" y="6021360"/>
            <a:ext cx="69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lick on the picture to see a video clip of the fold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An origami sundial - 2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33640" y="2065320"/>
            <a:ext cx="3600360" cy="34894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019840" y="2066760"/>
            <a:ext cx="3600360" cy="3484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403280" y="6021360"/>
            <a:ext cx="69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lick on the picture to see a video clip of the fold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An origami sundial - 3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133640" y="1994040"/>
            <a:ext cx="3600360" cy="36306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019840" y="2476440"/>
            <a:ext cx="3600360" cy="26672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403280" y="6021360"/>
            <a:ext cx="69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lick on the picture to see a video clip of the fold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8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An origami sundial - 4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173240" y="1752480"/>
            <a:ext cx="3521160" cy="4114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019840" y="2046240"/>
            <a:ext cx="3600360" cy="3525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403280" y="6021360"/>
            <a:ext cx="69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lick on the picture to see a video clip of the fold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An origami sundial - 5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133640" y="2805120"/>
            <a:ext cx="3600360" cy="20080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019840" y="2790720"/>
            <a:ext cx="3600360" cy="20383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332000" y="5445000"/>
            <a:ext cx="69850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lick on the picture to see a video clip of the fold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t doesn’t matter which side you fold over –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you can have the plain or coloured side u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5T19:51:43Z</dcterms:created>
  <dc:creator>Peter Ransom</dc:creator>
  <dc:description/>
  <dc:language>en-US</dc:language>
  <cp:lastModifiedBy>Ransom</cp:lastModifiedBy>
  <dcterms:modified xsi:type="dcterms:W3CDTF">2008-05-13T21:30:03Z</dcterms:modified>
  <cp:revision>24</cp:revision>
  <dc:subject/>
  <dc:title>Fun with the sun</dc:title>
</cp:coreProperties>
</file>